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F0B-98BC-4A3D-8E69-CDC541CF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35E-34A3-4406-A2E4-C350598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5E3-4315-44CC-B339-92E5A324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204-2136-4D4D-9D1F-7F277B1A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7BAD-0E3C-42AA-9ACD-EE9DDBBD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1AE-E37D-42F3-B989-FC4BF489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B790-00E1-41A5-A3AC-E1DAB722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F6A6-27EE-406C-B2CE-9E43E10F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1815-D7B9-49B9-A851-2776A06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F4F0-F90F-44E3-A4CE-E3B67A00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6129-23D9-4681-B41D-FA071D4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1C0-42C4-4B8C-B5A0-A924F8B6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49A-D60E-4C03-82E9-8BBD057A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42F2-7F79-4B23-A144-244D4215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4277-592D-45C3-9202-DC53DC6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74F-15D2-40E0-90CF-98A198AA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CCC-AA11-4E04-B98D-D75C78D5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11A3-88D8-49BD-9F0A-8E9BBBEA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A66F-19F1-465A-ABDB-DAEE8EA8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825B-79CF-4E5F-9449-BD2105D2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0B35-0C38-422A-B019-27A124D7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0219-2FE9-480A-83EC-D9A2E48F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92F-7AC8-4D8A-8B67-BFC41ED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ABF4-1838-4270-814E-1393BBAC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72D8-6265-45C9-88C3-D8E81B1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A2AC-31A1-4CC3-A715-A070E900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F28B-CB01-48F5-808F-3930C9C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3CA6-754A-427F-B7F3-70413579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659E-6FC2-4F1B-958F-67B9D7CC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2120-D64D-49E9-9F03-54A49B6D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0AC8-FDC7-4DE1-BFA1-33867292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7683-5FF3-47A8-9EB9-0FDAC6F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5F66-7762-4CD7-B741-91AC590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D23-D8D2-46AD-B429-E278558B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495D-26A5-4233-B651-AB6BCE5D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B827-818C-4604-B795-AB5D1132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B64B-FCD6-4410-B274-7C0E1B78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B95A-0FB0-4BCA-BD15-0977795E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EEA6-FBDD-4119-B83C-46A3E87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53E2-BFCD-42C5-8BA3-6F23461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AF9E-6BC7-4920-96BF-E0883135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E7A3-FFC9-458D-98C1-2A4A409E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41EF-6C0F-4A34-88D6-70BFD6A0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1DE0-0C74-4763-A68D-36C657DB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419-958C-46AB-A0B1-0F503B38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49E5-725B-4925-959E-EF83C9C0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569B-0495-4083-AA6E-8AF6648E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9F64-F141-43E8-A35E-2E827951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40CE2-4966-48DA-AA22-D8E4969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2EB3-748B-4E08-B570-E45F6080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3385-39C1-4F7D-8BDC-BA4A155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6B589-DBF0-47C1-AD4F-4F30A59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0898-0FFA-4B48-BE43-5C34C24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345C8-FAD6-414F-9E60-EE705AC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3675-5353-4E32-A81F-9C57F2DC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940-E0E7-4096-AE33-4FCDF864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740D-10F4-41E4-A304-81E37B9A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CB93-CFD3-4ECC-B953-CC3FE8F1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B1B4-A467-4E71-B82D-F2CD9B3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C505-55F6-4D99-A41F-00620E96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4B3A-44FA-4DFC-8CB0-7F077EA5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5CCC-61BE-4345-8222-04492216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2E72-B194-46EC-A2C1-FB57F02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3232-CAE4-46E5-A4E9-1AF9517C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DD99-213E-40E2-9E5F-C342DC36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1EFB-7262-42DD-9A5A-4FA56CD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6D5-EF7E-43D6-97C9-8E936B3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2155-2445-4D55-98A7-5D760CD5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F59B-50E8-43A0-BDC3-BB8B84A3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B03C-BD3C-462B-9B33-E0FE550F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CDBE-8C91-4744-A659-A54109BB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E9F8-F8D4-4234-A7AF-8D191E75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E0B2-CAF2-4E99-A4E2-52C3949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5647-B6FF-4818-8EF1-143C06A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C04E-5DC4-4D2E-945B-D0DA300B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4F96-53B2-40CE-B459-C2C5C9CA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B4297-DDD9-4A5D-90ED-9AEC4BC7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2C7-544C-422B-801E-102CF82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2982-F5D3-456E-BAA8-AAE05ECB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5BCDE-697B-4924-A955-AA2FD15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C2BB-F04E-4C6D-822A-B249B4F2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8D094-8000-427B-B3AF-F5B60EE3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BD52-3770-4DA9-83F1-AA514FA6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24CF8-95EB-4BF2-B1C5-DB10BD35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3AF6-1D4C-4CE4-BD47-6B4236E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A05C-B98A-42BA-9041-D72BE822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5D2B2-9502-487A-873E-16104F1B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FEB8-02E3-4BD6-851A-45063EC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38B-572F-4780-892C-78B5783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4F289-13BD-45C4-8AFB-73A0CB0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70FC-E3DD-40F4-AEE8-014A5E1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F4FA-7643-43FD-A9DA-7DDD2DBC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99E3A-DFC1-4EB2-8C5C-AC4CB53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D4CFF-6549-4D81-83EE-78604DB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872B0-9C0E-428A-ADB2-2284EBBC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E91AD-7D1D-4F87-8AC0-055FC63F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4731-7C6A-40FE-8AAA-A7733B6390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21F-3862-42B9-94BE-C068EB1928A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6A47-1102-4745-B6C1-9A4AE03982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B5F-3F1F-4E38-8F63-562B545A05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D76D-7D6D-49A5-946B-E20BDF63E5A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84E-0B33-430F-837B-BFFE71BA24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C133-E66B-446E-A5EC-BD924A28DF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9457-5767-499C-82AB-3558F46022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resh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689040" y="1066680"/>
            <a:ext cx="8083440" cy="22068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7772400" cy="225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riting assig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hare sto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egin new story in boo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wont be going to the west this spring however they’ll be going to connecticu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am ny stister have chose to do the following start shopping for video games compare prices on-line and send to emai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y:Red::Opal: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ffaw:laugh::shout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Write a paragraph about a time you had to make a tough decision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e prepared to shar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310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1:52:48Z</dcterms:created>
  <dc:creator>litchfield</dc:creator>
  <dc:description/>
  <dc:language>en-US</dc:language>
  <cp:lastModifiedBy>Angie McCall</cp:lastModifiedBy>
  <dcterms:modified xsi:type="dcterms:W3CDTF">2011-09-01T20:10:10Z</dcterms:modified>
  <cp:revision>18</cp:revision>
  <dc:subject/>
  <dc:title>Sept. 2</dc:title>
</cp:coreProperties>
</file>